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AB1-7CD8-460F-9AA9-42A85F52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B76-9D75-4D22-9125-70904918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697-0621-4203-AEE4-697132D8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FC7-10F6-48FA-AED3-DA004DCA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F512-1072-4555-B8F0-1C098C69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77DD-D3C9-4FDC-BE7D-17EB44FF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C285-3E9B-4610-807D-914DA4C7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500A-0C9B-4DC7-A057-BA1EB933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F5DA-637F-49DB-B686-FA8680F9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9232-EB5D-449D-9E95-4604CEBC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D54D-877D-458E-B540-D4B21636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CF9-090F-43F1-977C-95030C1D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809D-3D7C-4C98-8A7E-C0B8513D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926C-4767-4CF6-A5D6-1ADCDABA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83C3-E601-46E4-9CE7-3DA8DA5F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124A-7DA6-4C19-B47C-1A3B7C24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D3CF-F679-4F54-89E5-2FC0D3D1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6E5-71E6-406A-B6EC-985339EF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8CC-D242-47FD-A890-76C2BB5E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BF5-A55A-4CE8-82EB-18263433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259-1797-4498-94BD-2D703BF7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4C4-0816-40AF-AA77-4F5DB8BC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DBB-7C71-439D-A1F2-9AB47558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858-18FA-4C01-8E53-F2EDCD66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823C-AB60-4262-BE93-E609F2F946C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93B7-B488-4CAE-AC42-415D3A260D3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00"/>
                </a:solidFill>
                <a:latin typeface="Times New Roman"/>
              </a:rPr>
              <a:t>ON AN IMPROVED WAY OF RESOLVING TWO VERY STABLE AND ACCURATE FREQUENCY SIGNALS AND THE BENEFITS CONFERRED AS A RESULT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3300"/>
                </a:solidFill>
                <a:latin typeface="Times New Roman"/>
              </a:rPr>
              <a:t>Richard Percival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3300"/>
                </a:solidFill>
                <a:latin typeface="Times New Roman"/>
              </a:rPr>
              <a:t>Quartzlock (UK) Ltd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29200" y="5630760"/>
            <a:ext cx="3581280" cy="817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1866960" cy="109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6900-4207-461B-973F-C2032D44B8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GT200 Time Interval Count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Universal Time Interval counter using reciprocal time count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PC interfacing and associated software provides virtual front pan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May be replaced by user with any suitable time interval count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Enables automatic data acquis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72200" y="5867280"/>
            <a:ext cx="2209680" cy="505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563868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5FE-1B50-44ED-BE8A-B6725757CA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Modes of Oper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Frequency M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Phase/Time difference m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Statistical analysi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405480" y="5867280"/>
            <a:ext cx="2210040" cy="505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58E-A228-4019-9FBF-31E1BAEBF1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Frequency Mod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What is the frequency m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How does is opera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What may it be used to measur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Set-up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What are the advantages of this m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405480" y="5865840"/>
            <a:ext cx="2210040" cy="504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F9D-34DF-4E30-A3A3-E633A8247D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Phase/Time difference mo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What is the Phase/Time difference m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How does it work opera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What it be used to measur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Set-up f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What are the advantages of this m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405480" y="5865840"/>
            <a:ext cx="2210040" cy="50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3D7-1403-4AB7-8D3C-1504B0FE7B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Stable 32 frequency stability analysi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What is 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What can it d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How does it wor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Who else uses 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405480" y="5867280"/>
            <a:ext cx="2210040" cy="505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0445-0536-4FEC-A5BB-FA8C297428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996633"/>
                </a:solidFill>
                <a:latin typeface="Times New Roman"/>
              </a:rPr>
              <a:t>Statistics used for T&amp;F calibration</a:t>
            </a:r>
            <a:endParaRPr b="0" lang="en-US" sz="4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Fractional Frequency Offse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Mean Fractional Frequency Offse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llan Vari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Modified Allan Vari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ime Vari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405480" y="5867280"/>
            <a:ext cx="2210040" cy="505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D71-A9CB-49EE-968E-FC19A3464D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Characterisation of the A7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How to Characterise the unit- method and equipmen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Expected results in freq. and phase mod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Data collection and analysi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esults- STS, drift and rms. resolution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528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hort Term Stability 1s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~5.5E-14 10s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~8.5E-15 100s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~1.3E-15  1000s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~1.6E-16 10000s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~2.6E-17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Drift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~2E-17/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Drift/</a:t>
            </a:r>
            <a:r>
              <a:rPr b="0" lang="en-GB" sz="2800" spc="-1" strike="noStrike">
                <a:solidFill>
                  <a:srgbClr val="402000"/>
                </a:solidFill>
                <a:latin typeface="Symbol"/>
                <a:ea typeface="Symbol"/>
              </a:rPr>
              <a:t>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~2ps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ms. Resolution 0.3ps          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324480" y="5943600"/>
            <a:ext cx="2210040" cy="504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066680" y="571500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231-790D-4A53-984E-E6823FD985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0720" y="1676520"/>
            <a:ext cx="7696080" cy="373356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Plot of Tests done at USNO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7" name="a7%20usno%20test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467840" cy="3621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324480" y="5867280"/>
            <a:ext cx="2210040" cy="505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219320" y="548640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52040" y="2565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A2F-4D51-40D0-9F6F-58B484CA66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Benefits &amp; Applic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Best commercial frequency measuremen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Off the shelf solution enables relative novices to perform top level calibr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May test ALL commercial frequency standards in fastest possible tim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Modular design &amp; powerful post-processing enable metrologist to configure to own ne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405480" y="5867280"/>
            <a:ext cx="2210040" cy="505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90720" y="556272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B0F-8DD8-4985-B050-B830562F9E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Users (so far!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Korea - Hyundai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Czech Republic -Mea test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Quartzlock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Bulgaria - National Standards Laboratory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British Airways Engineer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Interlab (Poland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USNO/Geodetic survey of Canada 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652-D56D-42FB-AD5F-F8AC0E8C0A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A7 Frequency and Phase Comparato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Introduction and modes of oper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Hardware descrip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Modes of oper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Performance specific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Other points/conclu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72200" y="5867280"/>
            <a:ext cx="2209680" cy="505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188-162A-4FC3-8386-8647E1D7EF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The Futu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Further integration of CIS physics capabilities w/ modern western electronic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Penetration of unit into defence and teleco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Development of new unit with lower noise floor, higher resolution, lower noise floor, western phase comparator and wider range of input frequenci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daptations of unit for specific custom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405480" y="5867280"/>
            <a:ext cx="2210040" cy="505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66680" y="571500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2C9-C3C9-48CA-9CBF-91F428F85B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Modular construction &gt; suits all nee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Unique high resolution and stability measurement solution for T&amp;F Metrolog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Multiple modes and characterisation post processing options empower us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further work should produce even more user friendly and adaptable unit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cd3333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cd3333"/>
                </a:solidFill>
                <a:latin typeface="Times New Roman"/>
              </a:rPr>
              <a:t>Watch this Space  !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405480" y="5867280"/>
            <a:ext cx="2210040" cy="505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066680" y="563868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671-F4DB-4A98-BF06-0EFEBA65C8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Introduction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72200" y="5867280"/>
            <a:ext cx="2209680" cy="505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430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What is the A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What are the uses for the A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What is special about this instrumen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5B0-1961-4893-9138-9852B99F7A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Gate Tim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Frequency Accurac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Frequency Stabilit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Reciprocal count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ime Interv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72200" y="5867280"/>
            <a:ext cx="2209680" cy="50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03E-CAF3-4B4A-8549-943BA3A949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Hardware Descrip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Overview of A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Frequency Difference Multipli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Distribution Amplifi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Internal Rubidium Oscillat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GT200 Time Interval Count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72200" y="5867280"/>
            <a:ext cx="2209680" cy="505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13E6-474A-44CE-8082-F89EA943D9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Overview of A7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Consists of a frequency difference multiplier (Integral) surrounded by a distribution amplifier, rubidium oscillator, supporting electronics and Time Interval count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19” 2U rack mountable unit with user operable front pan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72200" y="5867280"/>
            <a:ext cx="2209680" cy="505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A94-E328-41F3-9522-DE57715F6F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Frequency Difference Multipli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Extremely high quality module multiplies very small frequency differences so they may resolved by standard 100ps TI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Operates on both 5 and 10 MHz inpu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wo modes of oper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Phase/Time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72200" y="5867280"/>
            <a:ext cx="2209680" cy="505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6680" y="556272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572-1DA7-484D-9859-5E8CEEF9B7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Distribution Amplifi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Linear frequency distribution 1….100 MHz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1 input and 4 outpu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Hydrogen maser compatible perfor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Separate circuitry from A7 main un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djustable gain, low phase noise, high isolation &amp; low channel-channel crosstalk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72200" y="5867280"/>
            <a:ext cx="2209680" cy="505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E9F-1539-4444-8645-69C0410180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Internal Rubidium Oscillato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Enables suitable reference signal for medium to high applic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Small size, low weight, high accuracy &amp; high stability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urns A7 into complete frequency generation, measurement and distribution system. Complete metrology solution 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2200" y="5867280"/>
            <a:ext cx="2209680" cy="505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160020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rtzlock (UK)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106-80E4-4608-8F5B-4550D2F33D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18T16:35:18Z</dcterms:created>
  <dc:creator>Mike Dobson</dc:creator>
  <dc:description/>
  <dc:language>en-US</dc:language>
  <cp:lastModifiedBy>Richard Percival</cp:lastModifiedBy>
  <dcterms:modified xsi:type="dcterms:W3CDTF">2000-01-20T17:58:00Z</dcterms:modified>
  <cp:revision>9</cp:revision>
  <dc:subject/>
  <dc:title>ON AN IMPROVED WAY OF RESOLVING TWO VERY STABLE AND ACCURATE FREQUENCY SIGNALS AND THE BENEFITS CONFERRED AS A RESULT  </dc:title>
</cp:coreProperties>
</file>